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A9E1-58B6-4403-84FD-B57310FC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B3DA-C3B7-48B5-BD33-3D998944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800C-03CB-4D1B-8316-CA03D19E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2BCD-A17D-4D7E-BB07-D4FB6941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F9FA-0711-4FA7-9E9E-DF86F425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978E-1F23-4E11-BE45-416F99B3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A11B-384E-47A5-8B8E-9E630428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C26F-0F54-4528-8EA2-00229C4F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FAFA-72C4-4B62-8426-67F1DD72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5ED2-428B-4430-B5BC-3E49A651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8705-A078-4BCE-B8E7-B4AB81F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7049-5280-4952-A1A3-26286433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AE64-0512-471A-8579-AF01646D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F77F-3826-4A62-A8A8-8286E207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93B5-1883-4FA9-B41B-EF32725C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C159-9CD5-493F-84F6-5E42C526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0EC3-5ABC-4944-A822-A41EA293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E76E-2A8A-41D4-AA03-4F3E30C3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DC9B-11C6-4C0E-8B00-DE241FAB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640B-6040-413C-93E1-98AD1C10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492E-23D0-4566-8FEE-BE7C9796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8B60-F532-4668-AD74-A157FE37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40D1-30E2-4569-977A-DC21E7C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4F4C-C288-4D47-A097-9DF53225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6893-BEBE-44DF-8937-E79959E7AD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C7FE-63A7-40E5-88CC-8A6DBFC094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gl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iting Mon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cabulary workboo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kin disease scabies which is also called the seven year itch is very uncomfortable if you have it you itc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sease is caused by the human itch mite this is a parasite that is so tiny the human eye can barely sea 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es:Scale::Words:_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ndpaper:smooth::millstone: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swer k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kin disease scabies, which is also called the seven- year itch, is very uncomfortable; if you have it, you it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isease is caused by the human itch mite. This is a parasite that is so tiny the human eye can barely see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3:03:21Z</dcterms:created>
  <dc:creator>student</dc:creator>
  <dc:description/>
  <dc:language>en-US</dc:language>
  <cp:lastModifiedBy>student</cp:lastModifiedBy>
  <dcterms:modified xsi:type="dcterms:W3CDTF">2010-08-23T19:18:37Z</dcterms:modified>
  <cp:revision>2</cp:revision>
  <dc:subject/>
  <dc:title>English</dc:title>
</cp:coreProperties>
</file>